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image4.wmf" ContentType="image/x-wmf"/>
  <Override PartName="/ppt/media/image2.wmf" ContentType="image/x-wmf"/>
  <Override PartName="/ppt/media/image3.wmf" ContentType="image/x-wmf"/>
  <Override PartName="/ppt/media/TYPE.WAV" ContentType="audio/x-wav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4C1C-4175-4EC5-B0A4-F70FC1215F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1A9-7DED-4DE2-8733-EF3BEBB1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841-5647-462C-B9F1-86DAB089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B8D-6B28-403C-8C5D-434259BE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E58-76DD-4DB8-B526-19CEB1B0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0FF03-90D6-4268-9FB9-F1FB1809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7C5D9-055E-44B5-B021-06708856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E8636-4334-495C-9244-1E72AF09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D1C51-FBDF-43E4-BDB8-203AD70A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2E772-FADF-42CE-B61B-7B8EF225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061BF-5D10-49E5-A5D9-957098E2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5A33F-6C35-406E-9D3F-DC7E0FB7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A7A-ABF1-4EA6-A662-0B2D112B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9523D-7DF5-4C10-8CCF-7EDE9CFC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479DA-C512-4AF6-8502-09E078C8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15637-9835-4798-8950-4689514C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3FCD7-15CE-49EF-B489-F0D130EC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441AE-69CA-4349-B20E-773B5132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425-EAF8-4BF8-8CBD-C4623A48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5C0-2B53-4096-9B8B-9181E635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CD3-E544-43FA-96F2-7A75A78B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378-0F8A-4267-945A-76D63A0B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A21-E105-4A83-A48F-0829704F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7D2-CAE8-4F2A-A37A-E12CDE58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341-E07D-43FE-BBA4-DD9C8B80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7704-5C7C-440B-9F89-748AE8E5D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6455-389C-4DA9-8841-4746D3538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viding F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. Emerlina C. Binuy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Object 5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0574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6400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rt the divis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division sig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a multiplication sig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ss cancel if you can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numerator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denomin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Object 4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2082600" cy="632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to divide fractions and whole number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 Write the whole number as a fraction. Use 1 as the denomina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vide 3 ÷2/3 =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  Write the whole number as a Fraction.  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 Invert the divisor. Change the division sign to a multiplication sign. 3/1 x 3/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7238880" y="1905120"/>
            <a:ext cx="106704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Object 3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36232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2285640"/>
            <a:ext cx="571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 Multiply the numerators and denominators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3x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9/2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1x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4. Write the improper fraction as a mixed number.   9/2 = 4  and 1/2.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minder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hange an improper fraction to a mixed number, divide the numerator by the denominator. Put the remainder over the denomina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2895480" cy="21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5:54:18Z</dcterms:created>
  <dc:creator>emerlina binuya</dc:creator>
  <dc:description/>
  <dc:language>en-US</dc:language>
  <cp:lastModifiedBy>RomaK</cp:lastModifiedBy>
  <dcterms:modified xsi:type="dcterms:W3CDTF">2015-09-04T07:39:34Z</dcterms:modified>
  <cp:revision>11</cp:revision>
  <dc:subject/>
  <dc:title>Dividing Fractions</dc:title>
</cp:coreProperties>
</file>